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C24-C785-45EB-B277-B085B78C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DCF-E122-4E12-B962-05AC59F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457-071C-4BAF-8634-ACDDC33F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4AC-CCF7-4728-9884-20335791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6A7-78A4-4E0F-92C2-3CAE0A66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FEF-1E95-4638-A5C5-55F1D69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D666-853A-4EBE-B31A-5CAE96B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CF9-768F-4026-B828-DD952153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F02-C9D2-46CA-968E-957DD5B9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E8C5-963F-4C9F-93C9-2709B4C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546-BCD4-41EB-9DFA-82BA86A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814-ED93-4449-BE2B-3629887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444B-075D-4309-822D-DAD721D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79FB-2C38-4683-A538-33EB9B8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173-C806-455A-A675-412EA81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1B1-8E8A-42BF-920E-6A0C3BAB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11E-5AFB-4378-8307-4EC9E41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3D8-4AF4-4442-9763-EE5C0D8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880-B45C-4BB1-AE2D-C90E8C9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ED1-02FE-4E0F-A236-8413693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5CA-4936-4F99-99E4-D5F6C38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920-7E47-4002-8532-F38E1E8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F5A-C26F-457F-B69C-E26035A3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4FB-453C-4BFD-88D8-3380A33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126-758A-4EC5-B01F-40B5F2C59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79280"/>
            <a:ext cx="186048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F45-F9BB-4448-9B6C-2E3F2D4D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1640" y="441000"/>
            <a:ext cx="2773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EPIRB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1736640"/>
            <a:ext cx="49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worldwide link to  emergency servic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649440" y="484200"/>
            <a:ext cx="33609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proof to 10m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deploy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nna easily rewoun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808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d4d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emergency rescueME EPIRB1 provides three methods of communicating your location ensuring maximum chance of surviva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ink via Satellite to emergency servic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oming Beacon to aid final location by Search and Rescue Craf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High intensity strob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882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3090960"/>
            <a:ext cx="90000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5321160"/>
            <a:ext cx="900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836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The EPIRB1 is the ideal safety product for smaller vessels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Quick Release Mounting Bracke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asily packed in your grab bag or mounted for easy access to carry off in emergency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1476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Whether you are at sea or on land, the </a:t>
            </a: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rescueME EPIRB1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provides the reassurance that the emergency services can be alerted by the press of a butt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Brochures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rescueME EPIRB1 Brochur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Handy A6 fold out design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Other languages available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2097000"/>
            <a:ext cx="32086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e following marketing materials are Currently availabl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Dummi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uture marketing materials planned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int of Sale Display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EPIRB1 is supplied in full colour retail pack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Adverts (Full, half and quarter page)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EPIRB1 Poster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Web Presence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Ocean Signal Websit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International Organisation to monitor 406MHz distress alert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Currently 6 LEOSAR satellites in polar orbi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6 GEOSAR satellit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5004000" cy="2509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LEOSAR satellites use Doppler processing to determine beacon posi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Low accuracy, typically &lt;5nm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Slow, usually requiring two passe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Downlink not globally availab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45748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Cospas-Sarsat System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GEOSAR provides near instant alerting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Coverage within ~70</a:t>
            </a: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°S and ~70°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57" name="" descr="GEOSARMarch2013"/>
          <p:cNvPicPr/>
          <p:nvPr/>
        </p:nvPicPr>
        <p:blipFill>
          <a:blip r:embed="rId1"/>
          <a:stretch/>
        </p:blipFill>
        <p:spPr>
          <a:xfrm>
            <a:off x="395280" y="3753000"/>
            <a:ext cx="5805360" cy="289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68760" y="4365720"/>
            <a:ext cx="457524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34320" y="2023920"/>
            <a:ext cx="2209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EPIRB Comparison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33680"/>
          <a:ext cx="8351640" cy="3487680"/>
        </p:xfrm>
        <a:graphic>
          <a:graphicData uri="http://schemas.openxmlformats.org/drawingml/2006/table">
            <a:tbl>
              <a:tblPr/>
              <a:tblGrid>
                <a:gridCol w="1378080"/>
                <a:gridCol w="1163520"/>
                <a:gridCol w="1163520"/>
                <a:gridCol w="1162080"/>
                <a:gridCol w="1162080"/>
                <a:gridCol w="1160640"/>
                <a:gridCol w="1161720"/>
              </a:tblGrid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rescueME EPIR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afeSea E100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G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GME MT403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KTi SA1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CR Globalfix P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SSP P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52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7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u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469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Fully retractable anten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Battery replacement interv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0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Operational li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 hours (ty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hours 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66 channel G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55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2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(16ch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35971"/>
                          </a:solidFill>
                          <a:latin typeface="Arial"/>
                        </a:rPr>
                        <a:t>Covered Lany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35971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08360" y="1773360"/>
            <a:ext cx="216000" cy="79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36520" cy="86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064360" y="1511280"/>
            <a:ext cx="335160" cy="1054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384720" y="1736640"/>
            <a:ext cx="245880" cy="8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6200640"/>
            <a:ext cx="55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1d4db"/>
                </a:solidFill>
                <a:latin typeface="Arial"/>
              </a:rPr>
              <a:t>* items include service and battery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92360" y="483408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83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7236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03640" y="454500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303640" y="483408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303640" y="2133720"/>
            <a:ext cx="22356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5080" y="1692360"/>
            <a:ext cx="141120" cy="907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136000" y="6345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303640" y="335772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27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3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5928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12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136000" y="335772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85080" y="454500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985080" y="48340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282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EPIRB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smalles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ergency Position Indicating Radio Beacon 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s device has not been authorized as required by the rules of the Federal Communications Commission. This device is not, and may not be, offered for sale or lease, or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old or leased, until</a:t>
            </a:r>
            <a:r>
              <a:rPr b="0" i="1" lang="en-US" sz="3200" spc="-1" strike="noStrike">
                <a:solidFill>
                  <a:srgbClr val="c1d4d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authorization is obtained.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f October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% (typ) smaller by volume than the competitors 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And Lighter!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65320">
              <a:spcBef>
                <a:spcPts val="601"/>
              </a:spcBef>
              <a:buClr>
                <a:srgbClr val="c1d4db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The world’s most compact EPIRB can always be on hand, as its small size allows it to be easily placed in a grab bag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tate of the art storage lif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Reduced cost of ownership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Long Life – Less Hassl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903240" indent="-27288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Battery can be replaced at recognised battery replacement centres when expired or used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47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6360" y="395928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6360" y="326880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6360" y="260496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934320" y="202248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Gives the customer confidence that it will work when needed.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Warranty, subject to terms and conditions, covers manufacturing defect in material and workmanship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EPIRB1 the world’s smallest Emergency Position Indicating Radio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30% (typ) smaller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10 year battery lif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5 year warran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6360" y="4653000"/>
            <a:ext cx="826920" cy="64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6360" y="3968640"/>
            <a:ext cx="826920" cy="6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6360" y="328464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6360" y="26002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34320" y="2023920"/>
            <a:ext cx="2209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PIR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Extended Antenna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l out to activate or test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808200" indent="-273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rewind after us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381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15092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2000" y="2313000"/>
            <a:ext cx="2808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4-10-21T13:27:44Z</dcterms:modified>
  <cp:revision>141</cp:revision>
  <dc:subject/>
  <dc:title>rescueME PLB1</dc:title>
</cp:coreProperties>
</file>